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CD25C-478B-4C2F-9ED4-4DEFDFCF15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DA775-DEFE-4AD8-844A-0FB8E65583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8CF54-D7B9-40FE-8689-594667A80C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1879A-4E9A-448C-AA79-55F67877F7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0CD21-FF4B-4794-8F48-A41CB794E1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503A2-F65F-4725-9B8A-3B6EB8F7A3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E0C93-5AAC-46E7-8691-B7881C9390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48E11-2000-4A95-A61B-49C74F158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51362-B4D5-408C-A23E-4315B5AFC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52633-9310-4B44-B1E1-AC9A77670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6C1BA-9C43-4179-A00F-924135C3C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27E48-1EF6-4134-8575-638462B8E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5F58C-E5A1-46EF-813C-D2E7F4C66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8F0A1-ABE8-4167-ACB0-787C5BA2B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6AA56-65FF-486A-84E3-C93074A18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11AF1-1A00-4EF8-B6B3-D85315DBE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B0720-01E0-41B9-A86D-CDE4DA15E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A77E0-2A26-45A7-8734-564FD7B8D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12797-6A45-40B8-B4C7-6DEACFB2E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ADBE2-F9AF-47D8-92F1-214984836E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192.107.108.56/portfolios/k/kernan_k/intech/Polygons/polygons.gif&amp;imgrefurl=http://192.107.108.56/portfolios/k/kernan_k/intech/hlnarrative.htm&amp;h=282&amp;w=282&amp;sz=7&amp;hl=en&amp;start=5&amp;usg=__OnImcu-F_j_OXZYmWCIexgtexvU=&amp;tbnid=nOWb48latKZ7-M:&amp;tbnh=114&amp;tbnw=114&amp;prev=/images%3Fq%3Dpolygons%26gbv%3D2%26hl%3Den%26safe%3Dactive%26sa%3DG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images.google.com/imgres?imgurl=http://lvillage.education.vic.gov.au/lv/diec/hp.nsf/Files/ionetrex/%24File/polygons.JPG&amp;imgrefurl=http://lvillage.education.vic.gov.au/lv/diec/hp.nsf/PreviewHomePages/ionetrex&amp;h=383&amp;w=476&amp;sz=13&amp;hl=en&amp;start=19&amp;usg=__D4n4GAgAZktA33q9U3CWC7OgNB8=&amp;tbnid=BwMOKT8N1XniXM:&amp;tbnh=104&amp;tbnw=129&amp;prev=/images%3Fq%3Dpolygons%26gbv%3D2%26hl%3Den%26safe%3Dactive%26sa%3DG" TargetMode="External"/><Relationship Id="rId4" Type="http://schemas.openxmlformats.org/officeDocument/2006/relationships/image" Target="../media/image2.jpeg"/><Relationship Id="rId5" Type="http://schemas.openxmlformats.org/officeDocument/2006/relationships/hyperlink" Target="http://images.google.com/imgres?imgurl=http://lvillage.education.vic.gov.au/lv/diec/hp.nsf/Files/blaisehockey/%24File/polygons.JPG&amp;imgrefurl=http://lvillage.education.vic.gov.au/lv/diec/hp.nsf/PreviewHomePages/blaisehockey&amp;h=426&amp;w=681&amp;sz=15&amp;hl=en&amp;start=28&amp;usg=__SlfSZc8jnNTbDv38yDdUtohy1mA=&amp;tbnid=Dsl3eXHfTp9H8M:&amp;tbnh=87&amp;tbnw=139&amp;prev=/images%3Fq%3Dpolygons%26start%3D20%26gbv%3D2%26ndsp%3D20%26hl%3Den%26safe%3Dactive%26sa%3DN" TargetMode="External"/><Relationship Id="rId6" Type="http://schemas.openxmlformats.org/officeDocument/2006/relationships/image" Target="../media/image3.jpeg"/><Relationship Id="rId7" Type="http://schemas.openxmlformats.org/officeDocument/2006/relationships/hyperlink" Target="http://images.google.com/imgres?imgurl=http://lvillage.education.vic.gov.au/lv/diec/hp.nsf/Files/brisnoopy/%24File/polygons.JPG&amp;imgrefurl=http://lvillage.education.vic.gov.au/lv/diec/hp.nsf/PreviewHomePages/brisnoopy&amp;h=341&amp;w=511&amp;sz=21&amp;hl=en&amp;start=38&amp;usg=__shAd9lQcuCi6tUUCobtxGfJIMks=&amp;tbnid=_7QUutrsfIhMaM:&amp;tbnh=87&amp;tbnw=131&amp;prev=/images%3Fq%3Dpolygons%26start%3D20%26gbv%3D2%26ndsp%3D20%26hl%3Den%26safe%3Dactive%26sa%3DN" TargetMode="External"/><Relationship Id="rId8" Type="http://schemas.openxmlformats.org/officeDocument/2006/relationships/image" Target="../media/image4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mathopenref.com/polygon.html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2514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Polygon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polygon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3886200"/>
            <a:ext cx="2971800" cy="29718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polygons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162840" y="0"/>
            <a:ext cx="2981160" cy="24033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9" descr="polygons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0"/>
            <a:ext cx="4114800" cy="25750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1" descr="polygons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4876920" y="4022640"/>
            <a:ext cx="4267080" cy="28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7" descr="polygon"/>
          <p:cNvPicPr/>
          <p:nvPr/>
        </p:nvPicPr>
        <p:blipFill>
          <a:blip r:embed="rId1"/>
          <a:stretch/>
        </p:blipFill>
        <p:spPr>
          <a:xfrm>
            <a:off x="228600" y="1490760"/>
            <a:ext cx="5367240" cy="5367240"/>
          </a:xfrm>
          <a:prstGeom prst="rect">
            <a:avLst/>
          </a:prstGeom>
          <a:ln w="0">
            <a:noFill/>
          </a:ln>
        </p:spPr>
      </p:pic>
      <p:sp>
        <p:nvSpPr>
          <p:cNvPr id="54" name="Text Box 8"/>
          <p:cNvSpPr/>
          <p:nvPr/>
        </p:nvSpPr>
        <p:spPr>
          <a:xfrm>
            <a:off x="1371600" y="457200"/>
            <a:ext cx="6248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What is a polygon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4876920" y="1371600"/>
          <a:ext cx="4114800" cy="4572000"/>
        </p:xfrm>
        <a:graphic>
          <a:graphicData uri="http://schemas.openxmlformats.org/drawingml/2006/table">
            <a:tbl>
              <a:tblPr/>
              <a:tblGrid>
                <a:gridCol w="1939680"/>
                <a:gridCol w="2175120"/>
              </a:tblGrid>
              <a:tr h="106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lyg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i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n-Polyg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i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0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6" name="TextBox 16"/>
          <p:cNvSpPr/>
          <p:nvPr/>
        </p:nvSpPr>
        <p:spPr>
          <a:xfrm>
            <a:off x="4952880" y="6172200"/>
            <a:ext cx="373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an annotation pen to have a student fill in the tab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lygon: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609480" y="4114800"/>
            <a:ext cx="79250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polygon is a closed plane figure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unded by three or more line seg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6"/>
          <p:cNvSpPr/>
          <p:nvPr/>
        </p:nvSpPr>
        <p:spPr>
          <a:xfrm>
            <a:off x="762120" y="2057400"/>
            <a:ext cx="7543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 to the website to discov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ferent types of polyg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mathopenref.com/polygon.htm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lyg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0" y="2285640"/>
            <a:ext cx="403848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As you look at the website, look for connections between the sides and the angles of the polygons. After completing the activity, place info into the chart using an annotation p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5"/>
          <p:cNvSpPr/>
          <p:nvPr/>
        </p:nvSpPr>
        <p:spPr>
          <a:xfrm>
            <a:off x="152280" y="1447920"/>
            <a:ext cx="8991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 to the website below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mste.uiuc.edu/exner/java.f/angleobject/#simul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4724280" y="2362320"/>
          <a:ext cx="4038840" cy="4343400"/>
        </p:xfrm>
        <a:graphic>
          <a:graphicData uri="http://schemas.openxmlformats.org/drawingml/2006/table">
            <a:tbl>
              <a:tblPr/>
              <a:tblGrid>
                <a:gridCol w="2019600"/>
                <a:gridCol w="2019240"/>
              </a:tblGrid>
              <a:tr h="66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d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gl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7" descr="RegularPolygonFunctions_800"/>
          <p:cNvPicPr/>
          <p:nvPr/>
        </p:nvPicPr>
        <p:blipFill>
          <a:blip r:embed="rId1"/>
          <a:stretch/>
        </p:blipFill>
        <p:spPr>
          <a:xfrm>
            <a:off x="0" y="1447920"/>
            <a:ext cx="4952880" cy="3246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5" name=""/>
          <p:cNvGraphicFramePr/>
          <p:nvPr/>
        </p:nvGraphicFramePr>
        <p:xfrm>
          <a:off x="4876920" y="609480"/>
          <a:ext cx="4038480" cy="5677200"/>
        </p:xfrm>
        <a:graphic>
          <a:graphicData uri="http://schemas.openxmlformats.org/drawingml/2006/table">
            <a:tbl>
              <a:tblPr/>
              <a:tblGrid>
                <a:gridCol w="2019240"/>
                <a:gridCol w="2019240"/>
              </a:tblGrid>
              <a:tr h="1067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mber of Sid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______ of the Angl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0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7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8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8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7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0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7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6" name="TextBox 33"/>
          <p:cNvSpPr/>
          <p:nvPr/>
        </p:nvSpPr>
        <p:spPr>
          <a:xfrm>
            <a:off x="762120" y="5334120"/>
            <a:ext cx="3504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lete the table using an annotation p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34"/>
          <p:cNvSpPr/>
          <p:nvPr/>
        </p:nvSpPr>
        <p:spPr>
          <a:xfrm>
            <a:off x="457200" y="304920"/>
            <a:ext cx="3581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does the number of sides of a polygon relate to the angle measur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, J.  Polygon. (2007).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ath Open Reference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trieved from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mathopenref.com/polygon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ner, N.  Polygon Angle Applet.  (2003).  MSTE, Retrieved from http://www.mste.uiuc.edu/exner/java.f/angleobject/#sim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20:20:36Z</dcterms:created>
  <dc:creator>CABELL BOE</dc:creator>
  <dc:description/>
  <dc:language>en-US</dc:language>
  <cp:lastModifiedBy>Lezlie</cp:lastModifiedBy>
  <dcterms:modified xsi:type="dcterms:W3CDTF">2008-11-15T18:24:31Z</dcterms:modified>
  <cp:revision>4</cp:revision>
  <dc:subject/>
  <dc:title>Polygons</dc:title>
</cp:coreProperties>
</file>